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3425-BA14-4A6C-ABBA-4341E1FC3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E95D-CC56-4AEA-B077-7A5FB693D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15D7-2467-4D0D-8072-C413908DE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A84B-364B-424E-8160-1E6C7135D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47C0-1244-457C-AAE5-B9847A9AD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4516-485B-4ADC-932F-96A9885DA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82A8-AD2D-49B1-AF33-DBD11C2DC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EB3B-3A02-46F6-B8A9-EF850201F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114A-39D7-4F7B-B944-CF6D715CA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C428-F3ED-444D-8A52-C5D21FF2D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BF06-4669-422B-86E0-B77D93EA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64F5-2A76-425D-9A77-79173632E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54D-9AE2-47C9-867D-5A5936DF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3CE-1791-4906-8FD6-7D581421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5A4-4AF1-4D48-AD90-A984D700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F9A-6E7E-4A32-BAB6-7372FF67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634-5F70-470B-959A-53323315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607-F73D-416E-8A20-1311F536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C33-D2C0-4536-8F31-F9879AA5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A89-FF02-4AA7-97E2-8501D88D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6DF-8376-4038-97B8-50D2718E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9CB-AAA0-4EB9-AA0A-F3C9A868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F1A-64A0-462F-88EA-B3910178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DEB-1B0A-4C13-9C55-1D494F27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D822-E19C-4C79-B2BF-0252E29A8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Republic of the Union of Myanmar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lectricity Sector Financial and Regulatory Issu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8 May 2016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b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Myanmar Energy Team</a:t>
            </a:r>
            <a:br>
              <a:rPr sz="1800"/>
            </a:b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he World Bank</a:t>
            </a: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CFDC-E9BB-4C26-9204-CFAE7B69F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1" descr=""/>
          <p:cNvPicPr/>
          <p:nvPr/>
        </p:nvPicPr>
        <p:blipFill>
          <a:blip r:embed="rId1"/>
          <a:stretch/>
        </p:blipFill>
        <p:spPr>
          <a:xfrm>
            <a:off x="3105000" y="762120"/>
            <a:ext cx="5734080" cy="6057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Example: Thailand Electricity Tariff Structur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236D-9B46-403B-9D9E-CB16EBC08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ight Brace 2"/>
          <p:cNvSpPr/>
          <p:nvPr/>
        </p:nvSpPr>
        <p:spPr>
          <a:xfrm>
            <a:off x="5715000" y="2624040"/>
            <a:ext cx="914400" cy="1338480"/>
          </a:xfrm>
          <a:custGeom>
            <a:avLst/>
            <a:gdLst>
              <a:gd name="textAreaLeft" fmla="*/ 0 w 914400"/>
              <a:gd name="textAreaRight" fmla="*/ 330120 w 914400"/>
              <a:gd name="textAreaTop" fmla="*/ 23760 h 1338480"/>
              <a:gd name="textAreaBottom" fmla="*/ 1314720 h 13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15"/>
                  <a:pt x="10800" y="1230"/>
                </a:cubicBezTo>
                <a:lnTo>
                  <a:pt x="10800" y="9570"/>
                </a:lnTo>
                <a:cubicBezTo>
                  <a:pt x="10800" y="10185"/>
                  <a:pt x="16200" y="10800"/>
                  <a:pt x="21600" y="10800"/>
                </a:cubicBezTo>
                <a:cubicBezTo>
                  <a:pt x="16200" y="10800"/>
                  <a:pt x="10800" y="11415"/>
                  <a:pt x="10800" y="12030"/>
                </a:cubicBezTo>
                <a:lnTo>
                  <a:pt x="10800" y="20370"/>
                </a:lnTo>
                <a:cubicBezTo>
                  <a:pt x="10800" y="2098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ight Brace 4"/>
          <p:cNvSpPr/>
          <p:nvPr/>
        </p:nvSpPr>
        <p:spPr>
          <a:xfrm>
            <a:off x="5715000" y="5715000"/>
            <a:ext cx="914400" cy="609480"/>
          </a:xfrm>
          <a:custGeom>
            <a:avLst/>
            <a:gdLst>
              <a:gd name="textAreaLeft" fmla="*/ 0 w 914400"/>
              <a:gd name="textAreaRight" fmla="*/ 330120 w 9144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ight Brace 5"/>
          <p:cNvSpPr/>
          <p:nvPr/>
        </p:nvSpPr>
        <p:spPr>
          <a:xfrm>
            <a:off x="5562720" y="1947960"/>
            <a:ext cx="914400" cy="380880"/>
          </a:xfrm>
          <a:custGeom>
            <a:avLst/>
            <a:gdLst>
              <a:gd name="textAreaLeft" fmla="*/ 0 w 914400"/>
              <a:gd name="textAreaRight" fmla="*/ 330120 w 9144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228600" y="1459080"/>
            <a:ext cx="2743200" cy="51260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t off at 150 kWh/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charge only (no demand 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-13 US cents/k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150 kWh “limited cross-subsidies” for 30 kWh…still cover variable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50 kWh tariffs fully cover cost. Vary pro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U 7-17 US cents/k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379080" y="990720"/>
            <a:ext cx="239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Residential Tari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" descr=""/>
          <p:cNvPicPr/>
          <p:nvPr/>
        </p:nvPicPr>
        <p:blipFill>
          <a:blip r:embed="rId1"/>
          <a:stretch/>
        </p:blipFill>
        <p:spPr>
          <a:xfrm>
            <a:off x="2286000" y="1619280"/>
            <a:ext cx="6780240" cy="4357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Example: Thailand Electricity Tariff Structure (cont.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968C-B2BB-4512-AB9B-9C70CC0DC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4419720" y="1123920"/>
            <a:ext cx="24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Demand &gt; 1000 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76320" y="1598760"/>
            <a:ext cx="2133360" cy="34484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of Da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urage demand shift to partial peak and off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energy charge rates as Medium Users (30-1000 k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6"/>
          <p:cNvSpPr/>
          <p:nvPr/>
        </p:nvSpPr>
        <p:spPr>
          <a:xfrm>
            <a:off x="4681440" y="2895480"/>
            <a:ext cx="2667240" cy="1447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301120" y="1154160"/>
            <a:ext cx="197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Users Tari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Example: Thailand Electricity Tariff Structure (cont.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A1F9-8DFB-4069-B63D-2505A1068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4419720" y="1123920"/>
            <a:ext cx="24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Demand &gt; 1000 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76320" y="1598760"/>
            <a:ext cx="2133360" cy="36010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U energy charge 7-12 cents, depends on k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off-peak demand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 demand charge by volta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4114800" y="2666880"/>
            <a:ext cx="213372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2301120" y="1154160"/>
            <a:ext cx="197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Users Tari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260440" y="1600200"/>
            <a:ext cx="68072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2796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Q &amp; A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An Overview of Myanmar Power Secto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9A3D-8B8D-4C81-B7B1-BBC363DE5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9144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78200" indent="-178200"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Institutions: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34080" indent="-178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Ministry of Electricity and Energy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olicies and planning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Regulatory role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Transmission and system control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34080" indent="-178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Enterprises &amp; Corporation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Electric Power Generation Enterprise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Distribution functions: ESE, MESC, YESC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Fuel suppliers: MOGE, MPPE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34080" indent="-178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Private sector participant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rivate power producers (14 operating)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rivate contractors/concessionair for distribution  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3408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marL="17820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marL="17820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An Overview of Myanmar Power Sector (cont.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21F4-8745-4D5F-8789-B134680EE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1920" y="7621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64520" indent="-164520"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Recent Statistics: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08520" indent="-16452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Installed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grid generation capacity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~ 4,900 MW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Hydropower ~ 3,100 MW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1,100 MW private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Gas-fired ~ 1,600 MW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900MW operating; 622 MW private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Coal ~ 120 MW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08520" indent="-16452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Installed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off-grid generation capacity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~ 135 MW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08520" indent="-16452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Peak demand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~ 2,500 MW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February 2016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1" marL="308520" indent="-16452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Final electricity sales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in FY2014/15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ESE &amp; MESC ~ 6,333 million kWh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averaged 70 kyats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YESC ~ 4,922 million kWh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averaged 79 kyats) 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1" marL="308520" indent="-16452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Electricity loss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in FY 2014/15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Transmission loss ~ 3.3%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Distribution loss ~ 15 – 18%   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08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marL="164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marL="164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An Overview of Myanmar Power Sector (cont.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24B0-B3C5-4F45-92D4-CD8C095B8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9144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01680" indent="-301680"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Electricity Tariffs: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Wide range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35 – 150 kyats/kWh  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Uniform tariffs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across the country and time of service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Domestic tariffs” – largely residential customers 35-50 kyats/kWh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Non-residential customers 75-150 kyats/kWh. No demand charge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FY 14/15 financial loss ~ 5.3 kyats/kWh of final sale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Preliminary FY 15/16 loss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~ 22 kyats/kWh of final sales or over [240] billion kyats   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754200" indent="-15084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Key Sector Financial Issues: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</a:rPr>
              <a:t>Revenue side: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verall electricity tariffs below the cost of supply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</a:rPr>
              <a:t>Cost side: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Growing demand for electricity…more sales mean more losses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Increase in natural gas cost due to currency depreciation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Expanding investment to meet growing demand and electrification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</a:rPr>
              <a:t>Debt management: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Growing debt financing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</a:rPr>
              <a:t>Contractual obligations: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More contracts with private sector, requiring management of explicit and contingent obligations 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9D0B-02E3-4895-B9B9-AABF8B76E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Options for financial sustainability and regulatory policies: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Short-term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urchase more electricity from existing hydro IPPs and neighboring countrie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repare for electricity tariff changes to reflect the cost of supply and to encourage demand-side efficiency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ublic relations outreach on policy changes, including tariffs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rovide transparent subsidies to MOEE/electric enterprises from the State budget.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Establish dedicated power sector regulatory function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02DF-3B47-4F5A-B456-EEC92DC30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Options for financial sustainability and regulatory policies: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Longer-term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Integrated energy planning &amp; pricing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Continued generation, transmission &amp; distribution efficiency improvement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Demand side management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Scale-up renewable energy sources (e.g. solar, biomass and wind) at the grid and users level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Targeted subsidies for vulnerable consumer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Allow electric enterprises to retain profit for investment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rudent debt management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CE8E-D54F-4B6E-8261-5B1B4B166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Annex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32AB-72B8-414F-94AE-54D63D90B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Energy Sector Regulatory Arrangement in S.E. Asia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9ADF-C730-477E-9B1E-B5C0B68AF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80" y="873000"/>
            <a:ext cx="9105840" cy="5634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963800" y="6485040"/>
            <a:ext cx="536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Economic Research Institute for ASEAN and East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6:55:23Z</dcterms:created>
  <dc:creator>wb199003</dc:creator>
  <dc:description/>
  <dc:language>en-US</dc:language>
  <cp:lastModifiedBy>199003</cp:lastModifiedBy>
  <dcterms:modified xsi:type="dcterms:W3CDTF">2016-05-17T05:09:47Z</dcterms:modified>
  <cp:revision>370</cp:revision>
  <dc:subject/>
  <dc:title>Slide 1</dc:title>
</cp:coreProperties>
</file>